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C44-FA64-4463-8D7B-E3455B6F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268-3153-48B5-B53C-37502BD3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3F1-A6C3-4E9E-9828-BF5407A9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C26-F102-4C28-B372-1BD448E3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9A54-4B71-4ABE-B8C0-DF0381B5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4289-ABFD-43B6-B101-6D89E8A0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F002-9A86-4C84-8F11-D9E2BD10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23C4-C242-4F49-87ED-D722F859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0B19-E0A0-4A14-8620-9010512F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318F-2951-4943-868E-6549CEBB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105D-B09A-42F3-ACA2-866A4E76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3FA-82D8-4F59-BCD9-4DC0FBA8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6BFD-CF3A-40FD-A0D1-88C4A9FA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78FB-BD3F-441F-8DB5-A2F657DC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9CCA-02BB-4585-92D4-C4347D49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A2C2-5932-4E2F-B4CB-5B19E03D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01F1-E481-480C-896A-186781DA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E1A29-51F1-4FC0-9D3C-AFD8DB96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5AA5B-C722-4510-AC9C-26EB50DB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F0B2A-ADAA-4C68-858F-B856ADB6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3534-056A-4925-9BF3-1B1834D3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1D3FE-81A0-43BE-9E85-CA5CEF2F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F3C-6E26-4C84-974A-805CA3F1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4604-3C91-42E9-947E-E442E383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7BD3-67C7-4C20-AAC9-77CD8ACA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4273-14CC-4A37-A1C2-E91433E1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B309F-21BB-429A-A457-21BB471D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8185-9249-421A-9D7E-2C1E14A3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29A08-9737-423B-AE8A-7A40EB68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3F46-D010-4B08-B562-67987C4F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B64A8-865E-4E67-83C8-0FDDAC90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F8E4E-8081-4F7C-B9A9-E0487BE0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F8A04-D704-457C-8615-915A49B9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2FB-07D3-4743-B799-C3019532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5FF1C-4012-4FFA-A876-EE784158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FB921-ACEE-4EE1-A2FF-F37ABE66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32229-B057-435E-A94C-EC99A0A8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65C0E-7052-4D19-B23F-6D2EE067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AFDDB-9E34-4216-A10A-D3600C9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C985F-FD90-41F2-B021-7EFA254B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591F3-A2BA-47A4-8919-B2D9F3ED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A6994-07D7-40FB-97E6-09078E55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D9881-CEFB-40AA-AEE8-5E7379EE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778-8E1D-46C1-ADE3-3F6E0751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827-7E13-4B9E-AA3A-D54FBF7A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885-215B-4053-A1C8-B82F382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4B9-F23C-4936-ADAC-9567DE90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094-925D-4E49-8A94-7CE269D6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AAE8-73E3-411F-90B0-EEFF9DCC8E2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FBA2-590B-4703-8829-B8F5F65AAEA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B9C9-3633-4AB4-BE4E-C2FB98DDEBE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C57C-CBF8-48C3-87B4-D2A0BB834A5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2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Charts and Visual Design Rule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1295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think that Pie Chart is the best type of charts to compare between years 2000 and 2007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D0F2-2F85-4442-9F13-11578A17325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4771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0666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this on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59AB-FDDE-4728-B780-A2352D13C83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me Bad Examp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Content Placeholder 6" descr="phillips2.jpg"/>
          <p:cNvPicPr/>
          <p:nvPr/>
        </p:nvPicPr>
        <p:blipFill>
          <a:blip r:embed="rId1"/>
          <a:stretch/>
        </p:blipFill>
        <p:spPr>
          <a:xfrm>
            <a:off x="685800" y="1752480"/>
            <a:ext cx="8229600" cy="4230720"/>
          </a:xfrm>
          <a:prstGeom prst="rect">
            <a:avLst/>
          </a:prstGeom>
          <a:ln w="0">
            <a:noFill/>
          </a:ln>
        </p:spPr>
      </p:pic>
      <p:sp>
        <p:nvSpPr>
          <p:cNvPr id="2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9325-1EC9-4306-9E2C-863AEFA2317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Content Placeholder 6" descr="how_to3.gif"/>
          <p:cNvPicPr/>
          <p:nvPr/>
        </p:nvPicPr>
        <p:blipFill>
          <a:blip r:embed="rId1"/>
          <a:stretch/>
        </p:blipFill>
        <p:spPr>
          <a:xfrm>
            <a:off x="762120" y="1447920"/>
            <a:ext cx="7924680" cy="4316400"/>
          </a:xfrm>
          <a:prstGeom prst="rect">
            <a:avLst/>
          </a:prstGeom>
          <a:ln w="0">
            <a:noFill/>
          </a:ln>
        </p:spPr>
      </p:pic>
      <p:sp>
        <p:nvSpPr>
          <p:cNvPr id="2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D1E9-99DA-4D91-858D-F2674D54AC4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ontent Placeholder 6" descr="image003.jpg"/>
          <p:cNvPicPr/>
          <p:nvPr/>
        </p:nvPicPr>
        <p:blipFill>
          <a:blip r:embed="rId1"/>
          <a:stretch/>
        </p:blipFill>
        <p:spPr>
          <a:xfrm>
            <a:off x="609480" y="1371600"/>
            <a:ext cx="7391520" cy="4592520"/>
          </a:xfrm>
          <a:prstGeom prst="rect">
            <a:avLst/>
          </a:prstGeom>
          <a:ln w="0">
            <a:noFill/>
          </a:ln>
        </p:spPr>
      </p:pic>
      <p:sp>
        <p:nvSpPr>
          <p:cNvPr id="25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D37E-ABEF-4377-9B5B-60399D2EF6F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769680" y="6019920"/>
            <a:ext cx="79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lilt.ilstu.edu/gmklass/pos138/datadisplay/sections/goodcharts.ht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mall Multi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2" name="Content Placeholder 6" descr="Smallmult.png"/>
          <p:cNvPicPr/>
          <p:nvPr/>
        </p:nvPicPr>
        <p:blipFill>
          <a:blip r:embed="rId1"/>
          <a:stretch/>
        </p:blipFill>
        <p:spPr>
          <a:xfrm>
            <a:off x="1309680" y="1940040"/>
            <a:ext cx="6524640" cy="3774960"/>
          </a:xfrm>
          <a:prstGeom prst="rect">
            <a:avLst/>
          </a:prstGeom>
          <a:ln w="0">
            <a:noFill/>
          </a:ln>
        </p:spPr>
      </p:pic>
      <p:sp>
        <p:nvSpPr>
          <p:cNvPr id="2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0E71-14BC-40F7-9382-B81BACB1933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1364760" y="594360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en.wikipedia.org/wik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, sheet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880" y="18284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chart from the data set provi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C05A-43CD-413B-BD11-0D6BBA42B27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5867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what to do to make the chart looks bet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9B82-4349-44EB-A4AC-CBE6A335248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Chart Wizard to create the default chart on a data se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izing a chart according to good chart design principl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1326-A354-46FE-B004-AE75040CEF7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ing Chart Wizard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he following spreadsheet in Exce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top menu bar, select 'Insert' using your mouse. You should now see a group of icons labeled 'Charts', under the top menu b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data to be included in the char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your mouse to select the 'Column' chart. A drop down menu should appear showing the different types of column charts available. Select the type you w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column chart should have been added to your current worksheet. You can move the new chart by clicking-and-dragging it to a new location in the workshe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7708-D4B1-475D-A383-C145F89A003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(Column Char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data in sheet1 to make a 2-D column ch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at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er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lum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D Colum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C7F9-9DF7-4CAD-947F-1CD8C894F00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Chart 6" descr=""/>
          <p:cNvPicPr/>
          <p:nvPr/>
        </p:nvPicPr>
        <p:blipFill>
          <a:blip r:embed="rId1"/>
          <a:stretch/>
        </p:blipFill>
        <p:spPr>
          <a:xfrm>
            <a:off x="2432160" y="2968560"/>
            <a:ext cx="45846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color of the chart bars to be 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ig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 horizontal title “Names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out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xis Title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mary Horizontal Axis Tit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 vertical title “Length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both titles to 20 pt and 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click on the title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default title of the chart to be Family Child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out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rt Tit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the legend in the ch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out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gend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the Horizontal Gridlines from the Ch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out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mary Horizontal  Gridline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E028-D27C-4650-8A71-0C3B079395A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CB66-F1B5-4439-ACE5-8E84571A647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(Pie Char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Data in sheet2 to make Pie Chart for year 2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D P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3D39-681C-4359-BB2D-7454F8F98CB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62940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nother Chart for year 2007 and change its color to gr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at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er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D P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A919-5B54-46AC-86D8-A46C9D6D0E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4008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0880" y="8377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legend of the second chart (2007) to be shown on the to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Data in second chart (2007) as follow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8C25-B7AD-467C-BF64-448EC150A16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315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ina</cp:lastModifiedBy>
  <dcterms:modified xsi:type="dcterms:W3CDTF">2009-01-26T18:26:45Z</dcterms:modified>
  <cp:revision>97</cp:revision>
  <dc:subject/>
  <dc:title>CPSC 203</dc:title>
</cp:coreProperties>
</file>